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B74-A577-4C33-8001-1846BC3D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5F0-C79B-4E3D-8C27-787689BD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8A6-B716-4AE5-9E39-37AF66EB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986-5175-4971-88E4-229E3BF1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CCD-AFF3-4863-AC5B-004498A4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40B-A34D-4988-8ACB-2EA0BFE4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45D-5B2B-4C59-908C-36DA2E90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7A9-B7BE-4310-AF4A-0EE7144A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6091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0F4-9A79-4825-93D3-983DAF39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F03-A3D1-4C74-873C-519C4493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4A3-2CE4-46E7-B992-4A4216E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DDA-672F-46F4-AAB1-F4813B29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14440" y="61722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9F04-E47D-41CF-9F8E-3C948823F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79440" cy="27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71560" y="2514600"/>
            <a:ext cx="560088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0384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Year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August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8769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% revenue growth i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year compound average revenue growth of 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ng Reven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383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383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383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66680" y="1219320"/>
          <a:ext cx="7010640" cy="34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7010640" cy="34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Revenue Growth Has Come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676520"/>
          <a:ext cx="7772400" cy="43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B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79440" y="491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87692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% EBITA growth i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year compound average EBITA growth of 1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2396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95280" y="1143000"/>
          <a:ext cx="655344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65534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ivers of 2004 EBITA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90512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iplined margin focus relating to new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vourable business 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vity g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cost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leverage gained by adding revenue to established national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sh Fl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914400" y="1523880"/>
          <a:ext cx="7466040" cy="45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46604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lance Sh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1523880"/>
          <a:ext cx="7466040" cy="45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46604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990720" y="1981080"/>
          <a:ext cx="73152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315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71560" y="2514600"/>
            <a:ext cx="560088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 and Outl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d development of growth opportunities in Freightways’ existing three core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oning, People, Performance,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e incremental and complementary growth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 in IT and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y favourable from Freightways’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expected to Freightways’ operat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nt application of proven market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as u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1676520"/>
            <a:ext cx="7620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is presentation relates to the Freightways Limited NZX announcement and media release of 9 August 2004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s such it should be read in conjunction with, and is subject to the explanations and views contained in, those relea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successful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oned to deliver continuing earnings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ing an attractive dividend y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28600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4 high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and out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436760"/>
            <a:ext cx="83818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71560" y="2514600"/>
            <a:ext cx="560088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4 High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l High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ful transition to public 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ubsidiaries have performed very we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acquisition at expec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O forecast has been exc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underpinned by increasing demand for Freightways’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ancial Highl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1676520"/>
          <a:ext cx="68580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68580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PO Forec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1752480"/>
          <a:ext cx="68580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6858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71560" y="2514600"/>
            <a:ext cx="560088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1:45:19Z</dcterms:created>
  <dc:creator>FTaylor</dc:creator>
  <dc:description/>
  <dc:language>en-US</dc:language>
  <cp:lastModifiedBy>MRoyle</cp:lastModifiedBy>
  <dcterms:modified xsi:type="dcterms:W3CDTF">2004-08-05T05:10:15Z</dcterms:modified>
  <cp:revision>214</cp:revision>
  <dc:subject/>
  <dc:title>PowerPoint Presentation</dc:title>
</cp:coreProperties>
</file>